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193-6B2E-423E-822C-93234E95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597-D83A-415A-91C5-3B83B64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81D-6C93-4F6A-99A3-569D2784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182-26E4-48F4-B59A-2FE15C48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C91-C8D8-479F-BDDC-48C0D21F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C73-3DF1-49A5-8155-74F5119E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40A-BFFB-4765-9DA5-9F7E5778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414-8685-4353-80DE-9AF5B527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5A1-75E4-447F-A439-67AFB46C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84B-CE93-4286-886F-960AF13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4C0-661B-4771-B766-143149F8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81E7-0D2C-4CC9-AD10-61FC2724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ACF5-8730-445D-88CA-AC79E2776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R Monthly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6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lement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a discussion on establishing a new settlement tim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s support having an in person meeting of members from COPS and the DEV task force to discuss a proposed tim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 meeting will be schedu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next regularly scheduled meeting will be May 13 from 9:30 to 11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ed 13 pending PR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ed 580 through 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acts were operational and did not affect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the impact of this PRR is operational and there are no new determinants, CPR believed that COPS members should be made aware of the PR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83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ve Reserve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s Section 6.7.3 to distinguish Responsive Reserve deployments for frequency restoration from conditions that require EECP to be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nsored by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were due to PRS on 4/1/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S Review scheduled for 4/21/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 Performance and Regulation Cost Re-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s monitoring of QSEs’ adherence to their base power schedules, Balancing Energy Dispatch Instructions, and Ancillary Service Dispatch Instructions with a single metric that motivates QSEs to stay on schedule and perform their oblig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nsored by PUC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due to PRS on 4-22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S Review scheduled for 5-19-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R 54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ment of Mismatched Inter-QSE Energy Sche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R recommends that COPS submit the following PR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R 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R relates to the change in the initial settlement date from 17 days to 10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S remanded the PRR to COPS to consider the comments submitted by ERC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need to comple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eet and RMR settlements on final settlement when ERCOT is unable to timely prepare and import the billing determin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date for submission of Renewable Production Potential values from 7 days to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date calculation of Ancillary Services Obligation from 21 days to 14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PR 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R recommends that COPS submit comments supporting the comments of ERC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of this protocol should be handled by a different task force within C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. Boren</cp:lastModifiedBy>
  <dcterms:modified xsi:type="dcterms:W3CDTF">2005-04-20T21:08:48Z</dcterms:modified>
  <cp:revision>3</cp:revision>
  <dc:subject/>
  <dc:title>PowerPoint Presentation</dc:title>
</cp:coreProperties>
</file>